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751E0-460D-437C-B05E-794CD3427811}"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9901A-6ED9-4913-B8DC-2CE594F0C0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D6036-6BE5-4906-890D-12BFF23064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BC17D-DC11-407F-8E8D-75A2020DFA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1DB23-9954-4108-A280-4563D5BBC5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645CC-F192-457C-8F77-A07E29A13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63CB5-B287-49A2-A297-4D1C3FBD2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1AADE-79C0-45C9-A3AE-EE206BBFD1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F4A8B-4EEB-4016-AF2E-D48DA30867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A912E-CCD5-47C5-A50E-71E33A4848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6ADD0-945D-41FD-8B3A-1595B56572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E2C8A-4C2D-44CA-8A2B-963256FE08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6F2F-7A65-4BAA-A22C-AAD76D624D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ADBB2-9ABE-4B26-8C16-76680D3165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38585-D410-4DCC-A1CA-EA558D44A3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61B98-5B3A-4D17-86C5-2DC87E181D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F7700-2442-46CC-BAEE-967ECB81C2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96927-5C89-41C5-B23E-2415C1CA18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FF7EA-6FC4-4C60-9C2E-E98F9D96F6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8F464-A1CD-40F0-9D22-7B1EBBD948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7BB69-903D-4551-8590-57CC190E71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B1B4E-FFA5-4D34-B540-1A6CD4D1E2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A97F5-E380-480D-8DA3-895CB1B016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8AC57-98B7-4736-BE45-261CA3BEC2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E1067-F25F-4E7A-9B98-83E6DB5E12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26B10-8E2A-4262-B6FC-B01A6B1D1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49781-678C-4BC5-AD3C-9CCBCADF6C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DA1F6-4CA6-4727-B789-219B2EE45E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3D435-61E9-4DC4-B25E-4FA6B1E1D7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B2E54-E187-4C06-A666-AF958BF7B5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C5047-5ED3-457B-AF0F-42C246553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4E43-D616-48A2-B36D-7A530C47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A99F9-A158-4E42-B40C-99D91F5BC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D9957-09C3-4B5D-9924-A08CD67F7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1FCB6-639A-4859-A20D-E440218F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84F5D-5713-4D7C-A20A-CD2C9D47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8FC9-4F91-46D1-B6FA-F8877751E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117E3-806E-4CAB-9102-2551F4FDC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A9E6E-73E4-4D4B-A9BD-2ACD90BFE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95CD-90AF-4778-B09E-741A96884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310A-A6AA-417F-B3B9-1CD06305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CB2B-EC8E-4BCD-B08F-751DF303F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46631-10E5-4524-9B79-B1E24B27869F}"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66B75-1246-4553-8D3F-548D4667FA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6FE2B4-C5A2-456D-A85A-2C1AC9D902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9C7BA2-DFDA-46F0-9A58-674D4EB70A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55A4BF-E1B2-4D8A-82F4-529D047F2F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F13AA4-D63E-4612-A668-E74213DBD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77FE40-33F9-48C1-BD8C-7D5A437B03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B51DDA-A9A2-4A6E-9473-00C271A9DC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09597D-41CA-4ACA-999C-FE2FBD6BC8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868E39-726A-463F-89A0-E1FB1DBBBB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16DF9B-2DD5-43F0-A0D2-26BA096569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25A834-00C4-48E1-8CF5-E4CB42B250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A3E539-B9A6-4094-B992-AA8717F8BC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9EDD4F-B4B0-421D-A6B0-078E8350DB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0578F5-DE52-450C-85A8-762372ABC0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17DFDD-FB23-4CC6-A412-239D20F276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ADED8A-DC1B-4CA3-A1EF-9646FF60D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311632-AA7E-4A1D-A737-F0CCC4A3CB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8FD0F2-E8D5-44A9-8BC1-5D643E1D58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A9483A-CF14-4732-9808-EEE91ECD44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D5799-A9DF-424D-AC47-5B3CA93D16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D594BA-6AA7-4202-9646-19111E2696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989976-2596-4F3E-A85F-7018EB156F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F80F65-9463-4442-BAE6-934D31FE48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0C1790-EC4E-4851-9B89-1B5484D1D6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C34747-8455-4BE2-810A-ECE2018AD1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66C82C-BCA2-4AB1-A338-36D0AA42E8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A8EFEB-C021-412F-94AD-FFF83CFFED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986436-45A0-4110-B9C9-0D586B29E2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419C77-0D62-42AB-874C-3C72A7976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28800F-5869-498E-BAD4-17DC96649A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37:32Z</dcterms:modified>
  <cp:revision>510</cp:revision>
  <dc:subject/>
  <dc:title>Introductory Cybercrime Training for Judges and Prosecutors</dc:title>
</cp:coreProperties>
</file>